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089C-D1DD-4289-A5D4-41B11AC2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20A0-E882-4837-BF0A-CFA543E2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9B2A-04F5-445A-86CB-AC07FF31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2759-756A-4412-97E1-F026615D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F64E-A7CB-4DD5-8B29-EC78B110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F23E-6C02-48F4-8B78-65E83549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F398-F0A1-413D-A966-842A0C97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2F26-C842-4520-8FC3-58F81003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5E90-0F35-410F-9775-1517B8F2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CA66-5A61-49F8-A586-72EB8F8C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C042-3626-49EC-AAD9-1DC137E5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9C97-0392-4B95-B922-E2F8ED41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40F4-E220-4848-A7A0-C4232CCA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B161-0BFA-4969-B625-E57DD088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9ECC-AB41-4CAF-9239-D2ACD286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C0B2-59D2-418D-B3DC-CA783638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D932-6D49-4F00-9160-B9D9F5E2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5EF17-9CB0-45B3-94B1-6842B344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B0AC1-FEC8-40D0-96E1-E9502590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0D237-FA27-4C11-97C7-67B7E903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F026D-6E05-4DAE-A427-D4BEA3AF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4872C-127F-40C2-9FAE-B0B9E15D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B799-624A-4A36-9CFA-7B72DCA9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183F9-36EC-4C8D-B5E0-5606FAFD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0EE23-CF0A-44E3-A444-2A436C32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99B25-1966-46FD-8447-33D480BC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255A5-A7E2-4762-A47A-2E06609C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CEB94-831F-4979-A32A-AA8AAB49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20AFD-755C-468E-872D-CCFD6633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FCDCF-80B6-49CD-BE18-42D345BA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90E0B-019A-4168-AC4A-BE0AF514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15A9C-4FE9-4807-AB9F-2F4AD559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E3E5C-0BB3-4F5E-A423-74167272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EFEB-3B35-4C05-9CC4-67A2A964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48F26-2DA0-4470-9418-1E16F690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A23B7-A374-4B8C-8C1D-743F828D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96202-703A-464D-83AB-C8B6E700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59B3C-79D1-4C89-9B6A-310158A8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D3280-771D-497D-929A-5789E40A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A222A-0151-4D06-9221-9AB851D2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6B24F-9CEE-42F0-83CE-97DC9EAD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D8EF3-4029-4D2F-BEA3-C68D60C3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47D89-76DD-4ED1-9A92-8703AD11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6B89-3BB3-424E-8647-163B6C43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19C-8136-49BF-82A1-ACBBE221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29D-1CB4-4724-A184-663D350D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E389-6152-4F17-87C6-4A921072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D8E4-E2FA-4334-A635-CAF5BF5D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3DA1-05B0-4372-99EC-1252AE17D79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2F3D-BC2C-49EE-8EFF-9D38B706162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5AF9-FBC5-42C0-A822-A3D9B3D97D2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296E-FB75-44BF-9C72-1D69B3D91EF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iki.ucalgary.ca/page/Courses/Computer_Science/CPSC_203/CPSC_203_Template/Labs_Template/Week_1_-_Lab_2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719280"/>
            <a:ext cx="7864200" cy="2017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1 Lab2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Use Case Description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Flow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hooses a flight to canc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checks the deadline of canceling the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adline has not passed, the system refunds money to the user after subtracting the cancelation fe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condi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ancels the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mber of empty seats on the plans are increased by the number of cancelled sea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Flow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adline of cancelling the flight has pass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786240" indent="-21168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rror message is provide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786240" indent="-21168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an still cancel the flight but with no refun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2ECC-1352-4770-9FE8-FFC22428E13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other 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Wik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"/>
              </a:rPr>
              <a:t>http://wiki.ucalgary.ca/page/Courses/Computer_Science/CPSC_203/CPSC_203_Template/Labs_Template/Week_1_-_Lab_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925A-0737-49CD-B0C8-F632B2C4D69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use case diagram along with a use case description for a shipping company such as UPS or FedEx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25480" indent="-4431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s must be able to arrange for a pickup of a package to be delive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25480" indent="-4431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s must be able to check the status of a package, assuming there is a tracking number for 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25480" indent="-4431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s must be able to refuse a pack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25480" indent="-4431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very people must be able to determine the next address to deliver a package to, and get directions for 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D533-E2D4-4AAE-AB20-7883E9C9D06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 (cont’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very people must be able to confirm a package has been delivered, and store the signature of the sign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nt staff must be able to accept new packages to be shipped, as well as charge custome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s must be able to look at past parcel sending history for a particular location or custom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11F9-42F6-41AA-BCEF-22E1192208D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on Use Ca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ors: Nou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C412-DCB5-4306-87E9-D6066AA7829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http://wiki.ucalgary.ca/images/3/34/Actors.JPG"/>
          <p:cNvPicPr/>
          <p:nvPr/>
        </p:nvPicPr>
        <p:blipFill>
          <a:blip r:embed="rId1"/>
          <a:stretch/>
        </p:blipFill>
        <p:spPr>
          <a:xfrm>
            <a:off x="1828800" y="2666880"/>
            <a:ext cx="62704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on Use Ca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Case: A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08B3-2D22-4097-9FED-F0B402B123E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http://wiki.ucalgary.ca/images/5/51/Usecasedina.JPG"/>
          <p:cNvPicPr/>
          <p:nvPr/>
        </p:nvPicPr>
        <p:blipFill>
          <a:blip r:embed="rId1"/>
          <a:stretch/>
        </p:blipFill>
        <p:spPr>
          <a:xfrm>
            <a:off x="2362320" y="2743200"/>
            <a:ext cx="5486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se Case Descrip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Actor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Actor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ondi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Flow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condi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Flows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AD9A-27E2-4234-9FCF-62BC1389258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C79F-6FA8-459B-9B6B-9018B666C5E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http://wiki.ucalgary.ca/images/0/0f/Problemstatement2.JPG"/>
          <p:cNvPicPr/>
          <p:nvPr/>
        </p:nvPicPr>
        <p:blipFill>
          <a:blip r:embed="rId1"/>
          <a:stretch/>
        </p:blipFill>
        <p:spPr>
          <a:xfrm>
            <a:off x="1143000" y="2057400"/>
            <a:ext cx="55627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eate a Profi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user creates a new profile in the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Actor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r, system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Actor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anag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ondi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entered valid information for name, address, phone, and emai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hose a username that is available in the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hose a password that matches system restri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retyped the password correct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731520" indent="-1969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13D5-56D9-43BF-A41E-8668AE8045F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Flow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enters first name and last na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displays available countries in the worl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selects a country of resid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displays provinces in this count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selects his/her provi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displays cities in this provi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selects his/her c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enters his/her emai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checks the correctness of the emai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enters his/her phone numb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checks the correctness of the phone numb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9C42-91BE-49CF-B9C9-B12096383E9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hooses a userna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validates the availability of this userna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hooses a passw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validates the robustness of this passw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retypes the passw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checks if both passwords are match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condi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reates a new profi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Flow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ny data is entered correct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provides an error messages and allows correction up to three time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F9DC-5F42-4787-90AD-1B1F30ADBFF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: cancel fligh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ncel fligh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user wants to cancel of a booked fligh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Actor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r,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Actor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anag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ondi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logged in the system with valid username and passw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already booked the flight he/she wants to canc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adline of canceling flight has not pass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FCBA-C507-4717-869F-83029F23D97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asaid</cp:lastModifiedBy>
  <dcterms:modified xsi:type="dcterms:W3CDTF">2009-04-01T18:43:04Z</dcterms:modified>
  <cp:revision>178</cp:revision>
  <dc:subject/>
  <dc:title>CPSC 203</dc:title>
</cp:coreProperties>
</file>